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56A3-DE0E-4370-AD34-F313990EC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A601-F782-4F50-A605-E8B785580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E6D88-EC56-405C-BD55-2F37D4673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F1E9-1A42-40A5-A690-0056481D8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8D1D-FB51-42F0-9932-17B4B24E6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221D-09FC-4E64-82CF-5ABC52DDD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1741-C708-464D-8B31-DC3CB4D49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65CD-3219-4D9C-8775-F5B4B5611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7EDF-5528-475B-9495-EB5079732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3D24-D2A7-432C-81A8-96AEDF62E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E81D-5001-4D07-9543-A921DE7FE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DED6-3870-43B6-AD07-B12924048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164A68-446E-45E6-AB80-5DEED43F1C9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– now: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1-07T07:44:05Z</dcterms:modified>
  <cp:revision>87</cp:revision>
  <dc:subject/>
  <dc:title>No Slide Title</dc:title>
</cp:coreProperties>
</file>